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D5D2-868B-43A9-A5BB-53FB0DA83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A84C-6EAE-4692-8024-0D122CA6B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34FC-27C2-4211-887D-89EE40A99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E41-F2A3-413F-8E9D-24EF9D153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9600-9883-4291-8B65-4E231DDF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DA83-E3A7-4194-84F5-4999E68CF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6671-B898-4429-BFAE-932E520FA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3A5C-1179-41E1-AC57-845EEBCE5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AAAF-0B10-4CB2-91D7-EE8BEE2E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4B8B-5710-4A51-B272-959C815AA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332F-6B8B-4B70-AA15-0A3BFA604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ADB6-D10E-47EA-BB90-9D6787577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3728-0F44-43B3-A6DC-F32D646E4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E736-8855-4D49-A6D0-5D02246F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F853-55B1-4FC5-A55C-F52DD155B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55C0-CEDD-458B-B6FF-6B7D157AA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B9AE-52A7-442E-8654-C1962B0BC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0AE1-CF82-4C2D-804F-305072A5E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5381-508D-466A-9C2E-A684D579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47F9-0531-4D8E-BE94-2CFA0F7C3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E5BB-B957-4EF4-8802-5CAD5EFD1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AF6A-84FA-4364-A5FB-1C78E71AB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F2F-8449-44B0-A36E-9C164E01E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3146-4749-4A19-9BEB-043B37034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3832-B4BF-4AC6-A65F-F6FFA72B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679-3DBC-4BEC-91EE-C359F234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1CE8-B531-40D1-8DA1-ADD04626D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8D85-4701-4C14-B73F-0D1080E21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8DB-8B05-45DB-A454-DA8B2B2D3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2145-49A1-451C-BE06-29090BFC5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EA9A-1526-4A61-9FD1-8DD884EE3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1297-4C8B-493F-B547-4EF19B1D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27CE-8D75-4AF8-9B69-1F0AD028F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4AA-88F1-47C5-9D42-D30E22B8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FBC-A29C-42BB-9B06-1AA1EB86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AF9-F71F-48DD-97F1-B4B7621B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EE0-2CA5-470A-A1EA-AFC4C2B1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6CE-8A17-4C75-AD80-16DF714E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4E9-5B52-453D-A2EA-7CB8F8F3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9F4-D73A-4D4A-916C-15928D64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99D-5F94-4E9B-87AB-79BCBE7C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918-7203-410D-9E69-C8F40EB9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637-F787-4341-904E-E57C4D41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DC3-019D-4439-8A1C-174A91B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B11-CD3D-4053-AE83-C755D416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7A7E-9B14-4492-8A5C-3A795CEB9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Deserts"/>
          <p:cNvPicPr/>
          <p:nvPr/>
        </p:nvPicPr>
        <p:blipFill>
          <a:blip r:embed="rId1"/>
          <a:stretch/>
        </p:blipFill>
        <p:spPr>
          <a:xfrm>
            <a:off x="533520" y="588960"/>
            <a:ext cx="7315200" cy="51404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deserts1"/>
          <p:cNvPicPr/>
          <p:nvPr/>
        </p:nvPicPr>
        <p:blipFill>
          <a:blip r:embed="rId1"/>
          <a:stretch/>
        </p:blipFill>
        <p:spPr>
          <a:xfrm>
            <a:off x="838080" y="488880"/>
            <a:ext cx="7696440" cy="57103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0" y="457200"/>
            <a:ext cx="4114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d_30768n"/>
          <p:cNvPicPr/>
          <p:nvPr/>
        </p:nvPicPr>
        <p:blipFill>
          <a:blip r:embed="rId1"/>
          <a:stretch/>
        </p:blipFill>
        <p:spPr>
          <a:xfrm>
            <a:off x="609480" y="990720"/>
            <a:ext cx="3475080" cy="53496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desert-animal_187"/>
          <p:cNvPicPr/>
          <p:nvPr/>
        </p:nvPicPr>
        <p:blipFill>
          <a:blip r:embed="rId1"/>
          <a:stretch/>
        </p:blipFill>
        <p:spPr>
          <a:xfrm>
            <a:off x="609480" y="814320"/>
            <a:ext cx="8001000" cy="5180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oyote2"/>
          <p:cNvPicPr/>
          <p:nvPr/>
        </p:nvPicPr>
        <p:blipFill>
          <a:blip r:embed="rId1"/>
          <a:stretch/>
        </p:blipFill>
        <p:spPr>
          <a:xfrm>
            <a:off x="782640" y="588960"/>
            <a:ext cx="75787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rattle"/>
          <p:cNvPicPr/>
          <p:nvPr/>
        </p:nvPicPr>
        <p:blipFill>
          <a:blip r:embed="rId1"/>
          <a:stretch/>
        </p:blipFill>
        <p:spPr>
          <a:xfrm>
            <a:off x="3354480" y="588960"/>
            <a:ext cx="243504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Caracal2"/>
          <p:cNvPicPr/>
          <p:nvPr/>
        </p:nvPicPr>
        <p:blipFill>
          <a:blip r:embed="rId1"/>
          <a:stretch/>
        </p:blipFill>
        <p:spPr>
          <a:xfrm>
            <a:off x="2895480" y="304920"/>
            <a:ext cx="4430880" cy="6324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desert-animals"/>
          <p:cNvPicPr/>
          <p:nvPr/>
        </p:nvPicPr>
        <p:blipFill>
          <a:blip r:embed="rId1"/>
          <a:stretch/>
        </p:blipFill>
        <p:spPr>
          <a:xfrm>
            <a:off x="1353960" y="228600"/>
            <a:ext cx="5753160" cy="6222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kingsnake"/>
          <p:cNvPicPr/>
          <p:nvPr/>
        </p:nvPicPr>
        <p:blipFill>
          <a:blip r:embed="rId1"/>
          <a:stretch/>
        </p:blipFill>
        <p:spPr>
          <a:xfrm>
            <a:off x="1200240" y="725400"/>
            <a:ext cx="6743520" cy="5407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ant_07"/>
          <p:cNvPicPr/>
          <p:nvPr/>
        </p:nvPicPr>
        <p:blipFill>
          <a:blip r:embed="rId1"/>
          <a:stretch/>
        </p:blipFill>
        <p:spPr>
          <a:xfrm>
            <a:off x="990720" y="74304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100-0069_IMG"/>
          <p:cNvPicPr/>
          <p:nvPr/>
        </p:nvPicPr>
        <p:blipFill>
          <a:blip r:embed="rId1"/>
          <a:stretch/>
        </p:blipFill>
        <p:spPr>
          <a:xfrm>
            <a:off x="762120" y="1752480"/>
            <a:ext cx="7578720" cy="4821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Verdana"/>
              </a:rPr>
              <a:t>Sand Dunes. Sossusvlei. Namib-Naukluft National Park. Namibia</a:t>
            </a:r>
            <a:r>
              <a:rPr b="0" lang="en-US" sz="4400" spc="-1" strike="noStrike">
                <a:solidFill>
                  <a:srgbClr val="666666"/>
                </a:solidFill>
                <a:latin typeface="Verdan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2_high_1_84379"/>
          <p:cNvPicPr/>
          <p:nvPr/>
        </p:nvPicPr>
        <p:blipFill>
          <a:blip r:embed="rId1"/>
          <a:stretch/>
        </p:blipFill>
        <p:spPr>
          <a:xfrm>
            <a:off x="762120" y="1981080"/>
            <a:ext cx="7315200" cy="37353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ferocactus_wislizenii"/>
          <p:cNvPicPr/>
          <p:nvPr/>
        </p:nvPicPr>
        <p:blipFill>
          <a:blip r:embed="rId1"/>
          <a:stretch/>
        </p:blipFill>
        <p:spPr>
          <a:xfrm>
            <a:off x="1066680" y="98280"/>
            <a:ext cx="7239240" cy="6458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saguago2"/>
          <p:cNvPicPr/>
          <p:nvPr/>
        </p:nvPicPr>
        <p:blipFill>
          <a:blip r:embed="rId1"/>
          <a:stretch/>
        </p:blipFill>
        <p:spPr>
          <a:xfrm>
            <a:off x="2228760" y="38088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athedralRock"/>
          <p:cNvPicPr/>
          <p:nvPr/>
        </p:nvPicPr>
        <p:blipFill>
          <a:blip r:embed="rId1"/>
          <a:stretch/>
        </p:blipFill>
        <p:spPr>
          <a:xfrm>
            <a:off x="2209680" y="152280"/>
            <a:ext cx="4408560" cy="6629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tolLvsGMNPME03"/>
          <p:cNvPicPr/>
          <p:nvPr/>
        </p:nvPicPr>
        <p:blipFill>
          <a:blip r:embed="rId1"/>
          <a:stretch/>
        </p:blipFill>
        <p:spPr>
          <a:xfrm>
            <a:off x="782640" y="588960"/>
            <a:ext cx="75787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saguaro"/>
          <p:cNvPicPr/>
          <p:nvPr/>
        </p:nvPicPr>
        <p:blipFill>
          <a:blip r:embed="rId1"/>
          <a:stretch/>
        </p:blipFill>
        <p:spPr>
          <a:xfrm>
            <a:off x="2593800" y="304920"/>
            <a:ext cx="4005360" cy="6172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cactflow"/>
          <p:cNvPicPr/>
          <p:nvPr/>
        </p:nvPicPr>
        <p:blipFill>
          <a:blip r:embed="rId1"/>
          <a:stretch/>
        </p:blipFill>
        <p:spPr>
          <a:xfrm>
            <a:off x="304920" y="736560"/>
            <a:ext cx="8305560" cy="55371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chilopsis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Desert-plant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OCC_lupine1"/>
          <p:cNvPicPr/>
          <p:nvPr/>
        </p:nvPicPr>
        <p:blipFill>
          <a:blip r:embed="rId1"/>
          <a:stretch/>
        </p:blipFill>
        <p:spPr>
          <a:xfrm>
            <a:off x="2440080" y="588960"/>
            <a:ext cx="426384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paloverde"/>
          <p:cNvPicPr/>
          <p:nvPr/>
        </p:nvPicPr>
        <p:blipFill>
          <a:blip r:embed="rId1"/>
          <a:stretch/>
        </p:blipFill>
        <p:spPr>
          <a:xfrm>
            <a:off x="838080" y="63036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fornia De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Deserts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5241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desert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featherdusters"/>
          <p:cNvPicPr/>
          <p:nvPr/>
        </p:nvPicPr>
        <p:blipFill>
          <a:blip r:embed="rId1"/>
          <a:stretch/>
        </p:blipFill>
        <p:spPr>
          <a:xfrm>
            <a:off x="685800" y="41292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saguaronpdeserthabit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2" descr="desert"/>
          <p:cNvPicPr/>
          <p:nvPr/>
        </p:nvPicPr>
        <p:blipFill>
          <a:blip r:embed="rId1"/>
          <a:stretch/>
        </p:blipFill>
        <p:spPr>
          <a:xfrm>
            <a:off x="533520" y="557280"/>
            <a:ext cx="8001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44936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446120" y="1063800"/>
            <a:ext cx="4364280" cy="6120"/>
            <a:chOff x="1446120" y="1063800"/>
            <a:chExt cx="4364280" cy="6120"/>
          </a:xfrm>
        </p:grpSpPr>
        <p:grpSp>
          <p:nvGrpSpPr>
            <p:cNvPr id="60" name="Group 18"/>
            <p:cNvGrpSpPr/>
            <p:nvPr/>
          </p:nvGrpSpPr>
          <p:grpSpPr>
            <a:xfrm>
              <a:off x="1449360" y="1066680"/>
              <a:ext cx="4357800" cy="360"/>
              <a:chOff x="1449360" y="1066680"/>
              <a:chExt cx="4357800" cy="360"/>
            </a:xfrm>
          </p:grpSpPr>
          <p:sp>
            <p:nvSpPr>
              <p:cNvPr id="61" name="Rectangle 17"/>
              <p:cNvSpPr/>
              <p:nvPr/>
            </p:nvSpPr>
            <p:spPr>
              <a:xfrm>
                <a:off x="1449360" y="1066680"/>
                <a:ext cx="4357800" cy="3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Group 16"/>
              <p:cNvGrpSpPr/>
              <p:nvPr/>
            </p:nvGrpSpPr>
            <p:grpSpPr>
              <a:xfrm>
                <a:off x="1449360" y="1066680"/>
                <a:ext cx="4357800" cy="360"/>
                <a:chOff x="1449360" y="1066680"/>
                <a:chExt cx="4357800" cy="360"/>
              </a:xfrm>
            </p:grpSpPr>
            <p:sp>
              <p:nvSpPr>
                <p:cNvPr id="63" name="Rectangle 4"/>
                <p:cNvSpPr/>
                <p:nvPr/>
              </p:nvSpPr>
              <p:spPr>
                <a:xfrm>
                  <a:off x="1449360" y="1066680"/>
                  <a:ext cx="4357800" cy="360"/>
                </a:xfrm>
                <a:prstGeom prst="rect">
                  <a:avLst/>
                </a:pr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15"/>
                <p:cNvSpPr/>
                <p:nvPr/>
              </p:nvSpPr>
              <p:spPr>
                <a:xfrm>
                  <a:off x="1449360" y="1066680"/>
                  <a:ext cx="43578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" name="Rectangle 19"/>
            <p:cNvSpPr/>
            <p:nvPr/>
          </p:nvSpPr>
          <p:spPr>
            <a:xfrm>
              <a:off x="1446120" y="1063800"/>
              <a:ext cx="4364280" cy="612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Picture 7" descr="desert view with spires Monument Valley"/>
          <p:cNvPicPr/>
          <p:nvPr/>
        </p:nvPicPr>
        <p:blipFill>
          <a:blip r:embed="rId1"/>
          <a:stretch/>
        </p:blipFill>
        <p:spPr>
          <a:xfrm>
            <a:off x="1617840" y="1112760"/>
            <a:ext cx="6080040" cy="40687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esert5"/>
          <p:cNvPicPr/>
          <p:nvPr/>
        </p:nvPicPr>
        <p:blipFill>
          <a:blip r:embed="rId1"/>
          <a:stretch/>
        </p:blipFill>
        <p:spPr>
          <a:xfrm>
            <a:off x="457200" y="1279440"/>
            <a:ext cx="8077320" cy="4740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geog2"/>
          <p:cNvPicPr/>
          <p:nvPr/>
        </p:nvPicPr>
        <p:blipFill>
          <a:blip r:embed="rId1"/>
          <a:stretch/>
        </p:blipFill>
        <p:spPr>
          <a:xfrm>
            <a:off x="2247840" y="533520"/>
            <a:ext cx="4849920" cy="55623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Deserts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desert1"/>
          <p:cNvPicPr/>
          <p:nvPr/>
        </p:nvPicPr>
        <p:blipFill>
          <a:blip r:embed="rId1"/>
          <a:stretch/>
        </p:blipFill>
        <p:spPr>
          <a:xfrm>
            <a:off x="1663560" y="588960"/>
            <a:ext cx="58183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2:26:24Z</dcterms:created>
  <dc:creator>Romona Hunt</dc:creator>
  <dc:description/>
  <dc:language>en-US</dc:language>
  <cp:lastModifiedBy>Laura McDow</cp:lastModifiedBy>
  <dcterms:modified xsi:type="dcterms:W3CDTF">2010-09-02T15:31:31Z</dcterms:modified>
  <cp:revision>4</cp:revision>
  <dc:subject/>
  <dc:title>PowerPoint Presentation</dc:title>
</cp:coreProperties>
</file>